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30320"/>
            <a:ext cx="0" cy="660060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6280" y="76320"/>
            <a:ext cx="8048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43040" cy="91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904-176A-4EC1-A6A0-A6F125DF4287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62720" y="6362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E2A1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anage Demobilization Procedure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demobilization procedur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the demobilization procedures and access to DA PAM 600-7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required elements of a demobilization plan and final processing procedures to include a departure ceremon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 stated in DA PAM 600-72, Chapter 8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10:42Z</dcterms:created>
  <dc:creator>ADG</dc:creator>
  <dc:description/>
  <dc:language>en-US</dc:language>
  <cp:lastModifiedBy>Administrator</cp:lastModifiedBy>
  <cp:lastPrinted>2000-03-15T00:31:16Z</cp:lastPrinted>
  <dcterms:modified xsi:type="dcterms:W3CDTF">2005-07-08T14:06:56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E\CCE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